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92E-53AC-4F9F-A3FA-CC4E96B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8B6-8C29-4A78-BBD6-94C621BD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FFA-8F27-4CB7-A554-504858DB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DAF-2047-44A6-8DDD-D6322F72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F84E2-4E4E-4AE4-BE42-8C54BE8E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47A27-65B6-424F-BBAB-0CDDBFA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28383-8766-4CA2-B1B8-3E2B7221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D88DC-F28B-444E-9038-0884E73B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6588-A5E2-419A-84EB-28A60BC2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71B7-82C2-4878-A1A8-08356AA9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DB2FB-12E2-4839-A402-38E4FA0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578-14C1-43EE-992B-E84AF89F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3F58C-52D2-4164-A2A2-17D68BE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5FFC0-E113-43B5-B541-260047E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B1E73-BE38-4510-9136-E21A175B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9866-64E1-4318-8402-46FDE0A4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7BE24-E167-41C5-98C4-6DA4E3F8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4AE-FB8A-4483-AD32-2D4215F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462-D5EF-4AC4-BB07-4FDC2629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458-7373-4D6F-9B2D-ABAE2A2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EED-48CD-4535-93C8-69384A0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CD5-D602-4C1A-9608-EB822B3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0FE-E1D8-4760-85B1-82AF092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84E-8CB1-4A98-A48E-63FBCAB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DAD4-79A2-47F4-B3C1-64D6797702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6DA-EC58-4EB4-89BB-08D23D9BD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d you believe that over 7000 years ago Ancient Egyptians liked to bowl on alleys alot like 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leveland Indians are named after Louis Sockolexis whom was the first american indian to play professional baseb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urnal #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 for/against the pay of superstar athle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 Sent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riet Tubman, the former slave who became famous for her corage as a conductor on the Underground Railroad once made this statement “On my Underground Railroad, I never ran my train off the track and I never lost a passenge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a well publicized goverment report, more than half of Americas’ new jobs will be in the following industries health services, business services, and retail tr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urnal #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he quote: “Beauty is in the eye of the beholder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~ Margaret Hunger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iday Warm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pt/Ex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(verb) to receive willing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) John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cept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troph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(prep) but; exclu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) Everyon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xcep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Beth went out for piz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200400"/>
            <a:ext cx="87631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ce was humble as she (accepted, excepted) the award for most valuable play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y parents will not (accept, except) any excuses for breaking curf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All of the boys (accept, except) George were on time for the mee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Malcolm will (accept, except) your package from UPS when it arriv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. All of my children have blue eyes (accept, except) my oldest son, Gre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3:43Z</dcterms:created>
  <dc:creator>tpagel</dc:creator>
  <dc:description/>
  <dc:language>en-US</dc:language>
  <cp:lastModifiedBy>tpagel</cp:lastModifiedBy>
  <dcterms:modified xsi:type="dcterms:W3CDTF">2010-09-15T16:13:21Z</dcterms:modified>
  <cp:revision>2</cp:revision>
  <dc:subject/>
  <dc:title>Warm-Up Sentences</dc:title>
</cp:coreProperties>
</file>